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96F4-6F25-4CBC-9702-2866F34C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6FFA-C5D6-4569-A6FA-51C4B252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52B6-2A68-4557-B74A-8C578D2B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D808-13E3-47A9-96F1-86545F19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310B-4958-4066-890E-72F32651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9BAC-E069-481A-9F1A-D9584A64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1C34-4A8C-4BFC-9E4D-FC2EA21E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5A2-6FC3-4209-A584-09BAC8A8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67E7-04CA-4416-9638-843FA49D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75DE-50B2-4EAC-A111-88D26FCC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3180-C63C-44E1-8999-6119B55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9380-CB38-4144-BC40-7559BCED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B4A7-1009-4025-A6D9-0F96218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BC1D-F83E-4B34-B18C-47286026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9942-3F1A-4103-B05C-12C91B2E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CC6F-ACE6-46BC-8258-9DDC2E5E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BB1F-C2AE-47D3-B89F-677C99B3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F701-AAF5-4790-A3A7-428C2BF0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95E5-5E0F-4440-9E51-512C54B9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1326-BEB9-43ED-ADC7-08112A0E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BD54-EC14-409F-A2C8-24417D3A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982E-FACA-43A6-96EC-C354BCCF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78CF-020B-4B05-AC51-838CE447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A79E-4637-4B92-B724-0131E38D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6FA6-8868-4E76-8165-139AE1C6E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007F-43F1-454F-8F2A-A7BF274F7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26CD-4634-402D-8783-B4E410432C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3999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xample 2.1 p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 the number of protons, neutrons, and electrons in each of the following spec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3357720"/>
          <a:ext cx="8820360" cy="3120840"/>
        </p:xfrm>
        <a:graphic>
          <a:graphicData uri="http://schemas.openxmlformats.org/drawingml/2006/table">
            <a:tbl>
              <a:tblPr/>
              <a:tblGrid>
                <a:gridCol w="1764000"/>
                <a:gridCol w="1620720"/>
                <a:gridCol w="1800000"/>
                <a:gridCol w="1513080"/>
                <a:gridCol w="212256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Atomic number 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mass number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–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20 – 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5280" y="4797360"/>
                <a:ext cx="13194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258920" y="197640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FA9F-2A3C-486F-860B-4B0BA8F60D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42920" y="620640"/>
                <a:ext cx="64818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,</m:t>
                    </m:r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rot="5400000">
            <a:off x="2915640" y="1052280"/>
            <a:ext cx="503280" cy="2087640"/>
          </a:xfrm>
          <a:custGeom>
            <a:avLst/>
            <a:gdLst>
              <a:gd name="textAreaLeft" fmla="*/ 0 w 503280"/>
              <a:gd name="textAreaRight" fmla="*/ 181800 w 503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234648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topes of So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9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1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4437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actice Exercise p5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protons, neutrons, and electrons are in the following isotope of copper: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63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can I get the atomic number: look at the periodic table →           then find the number of p, n &amp; e.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132000" y="5950080"/>
                <a:ext cx="1008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93243-79FA-41B7-AFA5-47499B36B6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24000" y="404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4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080" y="1041480"/>
            <a:ext cx="8675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eriodic Ta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chart in which elements having similar chemical and physical properties are group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s in the modern periodic table are arranged by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24360" y="3173400"/>
            <a:ext cx="5580000" cy="3640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360" y="3132000"/>
            <a:ext cx="1800000" cy="13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4EF3-AAE9-4B57-AEF3-0A946796A8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4"/>
          <p:cNvGrpSpPr/>
          <p:nvPr/>
        </p:nvGrpSpPr>
        <p:grpSpPr>
          <a:xfrm>
            <a:off x="1789200" y="2984400"/>
            <a:ext cx="2448000" cy="402840"/>
            <a:chOff x="1789200" y="2984400"/>
            <a:chExt cx="2448000" cy="402840"/>
          </a:xfrm>
        </p:grpSpPr>
        <p:sp>
          <p:nvSpPr>
            <p:cNvPr id="184" name="Text Box 4"/>
            <p:cNvSpPr/>
            <p:nvPr/>
          </p:nvSpPr>
          <p:spPr>
            <a:xfrm>
              <a:off x="2464560" y="2984400"/>
              <a:ext cx="1026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3399120" y="318744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>
              <a:off x="1789200" y="318744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6653520" y="1619280"/>
            <a:ext cx="402840" cy="2419200"/>
            <a:chOff x="6653520" y="1619280"/>
            <a:chExt cx="402840" cy="2419200"/>
          </a:xfrm>
        </p:grpSpPr>
        <p:sp>
          <p:nvSpPr>
            <p:cNvPr id="188" name="Text Box 16"/>
            <p:cNvSpPr/>
            <p:nvPr/>
          </p:nvSpPr>
          <p:spPr>
            <a:xfrm rot="5400000">
              <a:off x="6354000" y="2545920"/>
              <a:ext cx="10018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6856560" y="32004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6856560" y="1619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4"/>
          <p:cNvGrpSpPr/>
          <p:nvPr/>
        </p:nvGrpSpPr>
        <p:grpSpPr>
          <a:xfrm>
            <a:off x="57600" y="1185840"/>
            <a:ext cx="402840" cy="3171960"/>
            <a:chOff x="57600" y="1185840"/>
            <a:chExt cx="402840" cy="3171960"/>
          </a:xfrm>
        </p:grpSpPr>
        <p:sp>
          <p:nvSpPr>
            <p:cNvPr id="192" name="Text Box 21"/>
            <p:cNvSpPr/>
            <p:nvPr/>
          </p:nvSpPr>
          <p:spPr>
            <a:xfrm rot="5400000">
              <a:off x="-613800" y="2561760"/>
              <a:ext cx="1745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263880" y="35197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263880" y="1185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8669520" y="1295280"/>
            <a:ext cx="402840" cy="2928960"/>
            <a:chOff x="8669520" y="1295280"/>
            <a:chExt cx="402840" cy="2928960"/>
          </a:xfrm>
        </p:grpSpPr>
        <p:sp>
          <p:nvSpPr>
            <p:cNvPr id="196" name="Text Box 26"/>
            <p:cNvSpPr/>
            <p:nvPr/>
          </p:nvSpPr>
          <p:spPr>
            <a:xfrm rot="5400000">
              <a:off x="8087760" y="2535840"/>
              <a:ext cx="15660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8874000" y="338580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8874000" y="12952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4"/>
          <p:cNvGrpSpPr/>
          <p:nvPr/>
        </p:nvGrpSpPr>
        <p:grpSpPr>
          <a:xfrm>
            <a:off x="8160120" y="1671480"/>
            <a:ext cx="402840" cy="2671920"/>
            <a:chOff x="8160120" y="1671480"/>
            <a:chExt cx="402840" cy="2671920"/>
          </a:xfrm>
        </p:grpSpPr>
        <p:sp>
          <p:nvSpPr>
            <p:cNvPr id="200" name="Text Box 31"/>
            <p:cNvSpPr/>
            <p:nvPr/>
          </p:nvSpPr>
          <p:spPr>
            <a:xfrm rot="5400000">
              <a:off x="7711200" y="2755440"/>
              <a:ext cx="13006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2"/>
            <p:cNvSpPr/>
            <p:nvPr/>
          </p:nvSpPr>
          <p:spPr>
            <a:xfrm>
              <a:off x="8366040" y="35053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8366040" y="167148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98680" y="760320"/>
            <a:ext cx="402840" cy="3978360"/>
            <a:chOff x="598680" y="760320"/>
            <a:chExt cx="402840" cy="3978360"/>
          </a:xfrm>
        </p:grpSpPr>
        <p:sp>
          <p:nvSpPr>
            <p:cNvPr id="204" name="Text Box 36"/>
            <p:cNvSpPr/>
            <p:nvPr/>
          </p:nvSpPr>
          <p:spPr>
            <a:xfrm rot="5400000">
              <a:off x="-494640" y="2586600"/>
              <a:ext cx="25898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7"/>
            <p:cNvSpPr/>
            <p:nvPr/>
          </p:nvSpPr>
          <p:spPr>
            <a:xfrm>
              <a:off x="80316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8"/>
            <p:cNvSpPr/>
            <p:nvPr/>
          </p:nvSpPr>
          <p:spPr>
            <a:xfrm>
              <a:off x="80316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1C18-CC3C-4145-880A-1E9B7068DC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are arranged by atomic number (Z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riod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7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oup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the vertical rows, elements in the same group have similar chemical and 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8 groups, assigned as 1A-to-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so 8 groups are assigned as 1B-to-8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me groups are given special nam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groups 1B-to-8B are called the </a:t>
            </a:r>
            <a:r>
              <a:rPr b="1" lang="en-GB" sz="2000" spc="-1" strike="noStrike">
                <a:solidFill>
                  <a:srgbClr val="9900cc"/>
                </a:solidFill>
                <a:latin typeface="Comic Sans MS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Group 1A elements (Li, Na, K, Rb, Cs and Fr) are called </a:t>
            </a:r>
            <a:r>
              <a:rPr b="1" lang="en-GB" sz="2000" spc="-1" strike="noStrike">
                <a:solidFill>
                  <a:srgbClr val="a50021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roup 2A elements (Be, Mg, Ca, Sr, Ba and Ra) are called </a:t>
            </a: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Group 7A elements (F, Cl, Br, I and At) are a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9999ff"/>
                </a:solidFill>
                <a:latin typeface="Comic Sans MS"/>
              </a:rPr>
              <a:t>Group 8A elements (He, Ne, Ar, Kr, Xe and Rn) are called </a:t>
            </a:r>
            <a:r>
              <a:rPr b="1" lang="en-GB" sz="2000" spc="-1" strike="noStrike">
                <a:solidFill>
                  <a:srgbClr val="9999ff"/>
                </a:solidFill>
                <a:latin typeface="Comic Sans MS"/>
              </a:rPr>
              <a:t>Noble Gases or Rare g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1525-9612-4267-9236-5C03826C2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lements in the periodic table are divided into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green colour, Most elements) is a good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nmeta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lue colour, 17 elements) is a poor conductor of heat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talloi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in brown colour, 8 elements) has properties that are intermediate between those of metals and nonme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8FAC-22EE-4006-8435-72F1887542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elements is most likely to be a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conductor of electricity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4bacc6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element is the 15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 element in period  #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778F-5924-46E8-B63B-2BAA79020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12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24000" y="1268280"/>
            <a:ext cx="795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olec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aggregate of two or more atoms in a definite arrangement held together by chemical forces, a molecule may contain atoms of the same element or atoms of two or mor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476360" y="3573360"/>
            <a:ext cx="6116760" cy="1796040"/>
            <a:chOff x="1476360" y="3573360"/>
            <a:chExt cx="6116760" cy="1796040"/>
          </a:xfrm>
        </p:grpSpPr>
        <p:pic>
          <p:nvPicPr>
            <p:cNvPr id="213" name="Picture 3" descr="C:\Chang Powerpoint\Figures\f002_12.jpg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476360" y="357336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1733400" y="485928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3145680" y="4859280"/>
              <a:ext cx="744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6"/>
            <p:cNvSpPr/>
            <p:nvPr/>
          </p:nvSpPr>
          <p:spPr>
            <a:xfrm>
              <a:off x="4939560" y="485928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7"/>
            <p:cNvSpPr/>
            <p:nvPr/>
          </p:nvSpPr>
          <p:spPr>
            <a:xfrm>
              <a:off x="6516000" y="4859280"/>
              <a:ext cx="69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4494-E2FB-43DF-B1C7-148BB52A34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5 Molecules and 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79280" y="2708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Diatomic molecule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52080" y="4292640"/>
            <a:ext cx="33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Br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859280" y="270360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olyatomic molecule: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450760" y="4221000"/>
            <a:ext cx="264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O, N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, CH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8539560" y="64008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959280" y="-107136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CFD0-25A1-4850-A5FA-F7E0A32C32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8930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 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n atom or a group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 has a net positive (+ve) or negative (-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79280" y="3763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ation: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an ion with a +ve charge (lose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4520" y="61405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Mg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859280" y="375912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nion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n ion with a -ve charge ( Gain electron/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3241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959280" y="-15480"/>
            <a:ext cx="720720" cy="6553440"/>
          </a:xfrm>
          <a:custGeom>
            <a:avLst/>
            <a:gdLst>
              <a:gd name="textAreaLeft" fmla="*/ 0 w 720720"/>
              <a:gd name="textAreaRight" fmla="*/ 260280 w 720720"/>
              <a:gd name="textAreaTop" fmla="*/ 170640 h 6553440"/>
              <a:gd name="textAreaBottom" fmla="*/ 6382800 h 655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94400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5300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no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43280" y="530064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olyatomic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17440" y="339300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7440" y="5299200"/>
            <a:ext cx="19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 Br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,S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36000" y="5235480"/>
            <a:ext cx="1908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lyatomic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H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-,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O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6600"/>
                </a:solidFill>
                <a:latin typeface="Comic Sans MS"/>
              </a:rPr>
              <a:t>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4880" y="6140520"/>
            <a:ext cx="83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BBC1-F14B-4B42-BAC9-5A74AB6E0A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921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2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Atoms, Molecules and Ions</a:t>
            </a:r>
            <a:br>
              <a:rPr sz="40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49-64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71-7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2.10, 2.11, 2.12, 2.14, 2.16, 2.18, 2.26, 2.34, 2.36, 2.44, 2.46, 2.50, 2.57 (a,e,f,g,h,I,j,k,l,m), 2.58 (b,c,d,g,h,I,k), 2.59 (a,b,d,g,h,j), 2.60 (a,e,f,g,h,k),2.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NA00119_"/>
          <p:cNvPicPr/>
          <p:nvPr/>
        </p:nvPicPr>
        <p:blipFill>
          <a:blip r:embed="rId1"/>
          <a:stretch/>
        </p:blipFill>
        <p:spPr>
          <a:xfrm>
            <a:off x="0" y="576360"/>
            <a:ext cx="162720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NA00121_"/>
          <p:cNvPicPr/>
          <p:nvPr/>
        </p:nvPicPr>
        <p:blipFill>
          <a:blip r:embed="rId2"/>
          <a:stretch/>
        </p:blipFill>
        <p:spPr>
          <a:xfrm>
            <a:off x="7380360" y="5746680"/>
            <a:ext cx="1763640" cy="11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5B7B-51C7-43A0-906D-21CA7463A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7"/>
          <p:cNvGrpSpPr/>
          <p:nvPr/>
        </p:nvGrpSpPr>
        <p:grpSpPr>
          <a:xfrm>
            <a:off x="974880" y="1476360"/>
            <a:ext cx="3167640" cy="1295280"/>
            <a:chOff x="974880" y="1476360"/>
            <a:chExt cx="3167640" cy="1295280"/>
          </a:xfrm>
        </p:grpSpPr>
        <p:grpSp>
          <p:nvGrpSpPr>
            <p:cNvPr id="241" name="Group 10"/>
            <p:cNvGrpSpPr/>
            <p:nvPr/>
          </p:nvGrpSpPr>
          <p:grpSpPr>
            <a:xfrm>
              <a:off x="974880" y="1476360"/>
              <a:ext cx="1295280" cy="1295280"/>
              <a:chOff x="974880" y="1476360"/>
              <a:chExt cx="1295280" cy="129528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974880" y="147636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"/>
              <p:cNvSpPr/>
              <p:nvPr/>
            </p:nvSpPr>
            <p:spPr>
              <a:xfrm>
                <a:off x="1270440" y="1863720"/>
                <a:ext cx="8848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0"/>
            <p:cNvSpPr/>
            <p:nvPr/>
          </p:nvSpPr>
          <p:spPr>
            <a:xfrm>
              <a:off x="2500200" y="17730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8"/>
          <p:cNvGrpSpPr/>
          <p:nvPr/>
        </p:nvGrpSpPr>
        <p:grpSpPr>
          <a:xfrm>
            <a:off x="5508720" y="1628640"/>
            <a:ext cx="2970360" cy="1143000"/>
            <a:chOff x="5508720" y="1628640"/>
            <a:chExt cx="2970360" cy="1143000"/>
          </a:xfrm>
        </p:grpSpPr>
        <p:grpSp>
          <p:nvGrpSpPr>
            <p:cNvPr id="246" name="Group 11"/>
            <p:cNvGrpSpPr/>
            <p:nvPr/>
          </p:nvGrpSpPr>
          <p:grpSpPr>
            <a:xfrm>
              <a:off x="5508720" y="1628640"/>
              <a:ext cx="1201320" cy="1143000"/>
              <a:chOff x="5508720" y="1628640"/>
              <a:chExt cx="1201320" cy="1143000"/>
            </a:xfrm>
          </p:grpSpPr>
          <p:sp>
            <p:nvSpPr>
              <p:cNvPr id="247" name="Oval 8"/>
              <p:cNvSpPr/>
              <p:nvPr/>
            </p:nvSpPr>
            <p:spPr>
              <a:xfrm>
                <a:off x="5508720" y="1628640"/>
                <a:ext cx="114264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9"/>
              <p:cNvSpPr/>
              <p:nvPr/>
            </p:nvSpPr>
            <p:spPr>
              <a:xfrm>
                <a:off x="5689440" y="1941480"/>
                <a:ext cx="102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Text Box 21"/>
            <p:cNvSpPr/>
            <p:nvPr/>
          </p:nvSpPr>
          <p:spPr>
            <a:xfrm>
              <a:off x="6836760" y="184140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9"/>
          <p:cNvGrpSpPr/>
          <p:nvPr/>
        </p:nvGrpSpPr>
        <p:grpSpPr>
          <a:xfrm>
            <a:off x="1042920" y="4013280"/>
            <a:ext cx="3111840" cy="1143000"/>
            <a:chOff x="1042920" y="4013280"/>
            <a:chExt cx="3111840" cy="1143000"/>
          </a:xfrm>
        </p:grpSpPr>
        <p:grpSp>
          <p:nvGrpSpPr>
            <p:cNvPr id="251" name="Group 23"/>
            <p:cNvGrpSpPr/>
            <p:nvPr/>
          </p:nvGrpSpPr>
          <p:grpSpPr>
            <a:xfrm>
              <a:off x="1042920" y="4013280"/>
              <a:ext cx="1143000" cy="1143000"/>
              <a:chOff x="1042920" y="4013280"/>
              <a:chExt cx="1143000" cy="11430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1042920" y="401328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5"/>
              <p:cNvSpPr/>
              <p:nvPr/>
            </p:nvSpPr>
            <p:spPr>
              <a:xfrm>
                <a:off x="1357560" y="4324680"/>
                <a:ext cx="75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22"/>
            <p:cNvSpPr/>
            <p:nvPr/>
          </p:nvSpPr>
          <p:spPr>
            <a:xfrm>
              <a:off x="2512440" y="423396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0"/>
          <p:cNvGrpSpPr/>
          <p:nvPr/>
        </p:nvGrpSpPr>
        <p:grpSpPr>
          <a:xfrm>
            <a:off x="5348160" y="3860640"/>
            <a:ext cx="3123000" cy="1447560"/>
            <a:chOff x="5348160" y="3860640"/>
            <a:chExt cx="3123000" cy="1447560"/>
          </a:xfrm>
        </p:grpSpPr>
        <p:grpSp>
          <p:nvGrpSpPr>
            <p:cNvPr id="256" name="Group 24"/>
            <p:cNvGrpSpPr/>
            <p:nvPr/>
          </p:nvGrpSpPr>
          <p:grpSpPr>
            <a:xfrm>
              <a:off x="5348160" y="3860640"/>
              <a:ext cx="1447920" cy="1447560"/>
              <a:chOff x="5348160" y="3860640"/>
              <a:chExt cx="1447920" cy="1447560"/>
            </a:xfrm>
          </p:grpSpPr>
          <p:sp>
            <p:nvSpPr>
              <p:cNvPr id="257" name="Oval 18"/>
              <p:cNvSpPr/>
              <p:nvPr/>
            </p:nvSpPr>
            <p:spPr>
              <a:xfrm>
                <a:off x="5348160" y="386064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9"/>
              <p:cNvSpPr/>
              <p:nvPr/>
            </p:nvSpPr>
            <p:spPr>
              <a:xfrm>
                <a:off x="5787720" y="4400280"/>
                <a:ext cx="8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26"/>
            <p:cNvSpPr/>
            <p:nvPr/>
          </p:nvSpPr>
          <p:spPr>
            <a:xfrm>
              <a:off x="6828840" y="4225680"/>
              <a:ext cx="164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56360" y="907920"/>
            <a:ext cx="18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3213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15BE-5108-4A92-A5C0-94C1524554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468360" y="470520"/>
            <a:ext cx="8604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magnesium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, has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3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6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2 protons and 10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 protons and 22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 protons and 14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468360" y="3113640"/>
            <a:ext cx="70279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A sulfide ion, </a:t>
            </a:r>
            <a:r>
              <a:rPr b="0" lang="en-US" sz="2400" spc="-1" strike="noStrike" baseline="-25000">
                <a:solidFill>
                  <a:srgbClr val="cc0066"/>
                </a:solidFill>
                <a:latin typeface="Comic Sans MS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cc0066"/>
                </a:solidFill>
                <a:latin typeface="Comic Sans MS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 , has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6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 protons and 14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bacc6"/>
                </a:solidFill>
                <a:latin typeface="Comic Sans MS"/>
                <a:ea typeface="Times New Roman"/>
              </a:rPr>
              <a:t>16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2 protons and 1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951F-0583-4C2A-9996-C0730A0064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61920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020000" y="692280"/>
                <a:ext cx="1871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71484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How many protons and electrons ar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093080" y="3789360"/>
                <a:ext cx="1728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60A3-E3FC-4CE5-B0AF-CBF082ACAB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6 Chem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4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1. A molecular formula: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ws the exact number of atoms of each element in the smallest unit of a sub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, 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BC5C-618A-4431-96B8-E1E4635580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747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Comic Sans MS"/>
              </a:rPr>
              <a:t>2. An empirical formula: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s the simplest whole-number ratio of the atoms in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mpirical Formula may the same or different from the 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can we get the Empirical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vi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 numbers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de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the empirical formula of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is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H</a:t>
            </a:r>
            <a:r>
              <a:rPr b="1" lang="en-GB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ar-SA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divide the numbers 6, 12 and 6 by the largest common deviso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2206-9029-4805-A447-C3968690EB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7"/>
          <p:cNvSpPr/>
          <p:nvPr/>
        </p:nvSpPr>
        <p:spPr>
          <a:xfrm>
            <a:off x="5328720" y="12682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6"/>
          <p:cNvGrpSpPr/>
          <p:nvPr/>
        </p:nvGrpSpPr>
        <p:grpSpPr>
          <a:xfrm>
            <a:off x="1608840" y="476280"/>
            <a:ext cx="5923800" cy="1437840"/>
            <a:chOff x="1608840" y="476280"/>
            <a:chExt cx="5923800" cy="1437840"/>
          </a:xfrm>
        </p:grpSpPr>
        <p:sp>
          <p:nvSpPr>
            <p:cNvPr id="275" name="Text Box 6"/>
            <p:cNvSpPr/>
            <p:nvPr/>
          </p:nvSpPr>
          <p:spPr>
            <a:xfrm>
              <a:off x="2302920" y="1057320"/>
              <a:ext cx="1218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H</a:t>
              </a:r>
              <a:r>
                <a:rPr b="0" lang="en-US" sz="4400" spc="-1" strike="noStrike" baseline="-25000">
                  <a:solidFill>
                    <a:srgbClr val="a50021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a50021"/>
                  </a:solidFill>
                  <a:latin typeface="Comic Sans MS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1608840" y="476280"/>
              <a:ext cx="299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molecula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4726080" y="476280"/>
              <a:ext cx="280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9900cc"/>
                  </a:solidFill>
                  <a:uFillTx/>
                  <a:latin typeface="Comic Sans MS"/>
                </a:rPr>
                <a:t>empirica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0"/>
          <p:cNvSpPr/>
          <p:nvPr/>
        </p:nvSpPr>
        <p:spPr>
          <a:xfrm>
            <a:off x="1991880" y="2708280"/>
            <a:ext cx="21294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5191560" y="2708280"/>
            <a:ext cx="1572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C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424600" y="3890880"/>
            <a:ext cx="803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5497200" y="3890880"/>
            <a:ext cx="6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270160" y="5043600"/>
            <a:ext cx="1391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5"/>
          <p:cNvSpPr/>
          <p:nvPr/>
        </p:nvSpPr>
        <p:spPr>
          <a:xfrm>
            <a:off x="5342760" y="5043600"/>
            <a:ext cx="12063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US" sz="4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54D4-C964-48B1-A5EF-CA4587FE6E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mple 2.3 p5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rite the empirical formulas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ollowing molec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cetylene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trous oxide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 → 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ractice Exercise: C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ar-SA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A5F7-ACED-4CCF-8823-4C7DA5A49F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9036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3. Formula of Ionic Compounds: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أيونية</a:t>
            </a: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ar-SA" sz="3200" spc="-1" strike="noStrike">
                <a:solidFill>
                  <a:srgbClr val="00007d"/>
                </a:solidFill>
                <a:latin typeface="Comic Sans MS"/>
              </a:rPr>
              <a:t>المركب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228600" y="1287360"/>
            <a:ext cx="8686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Compound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ist of a combination of cations and an an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8436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4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Cl</a:t>
            </a:r>
            <a:r>
              <a:rPr b="0" lang="en-GB" sz="48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95640" y="334152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229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3640" y="3467160"/>
            <a:ext cx="1584360" cy="94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1818" y="-1734"/>
                </a:moveTo>
                <a:lnTo>
                  <a:pt x="20042" y="-1734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B97F-F8D8-42A3-90AE-ED955A5035F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Chang Powerpoint\Figures\f002_13l.jpg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1822320"/>
            <a:ext cx="8128080" cy="30783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354040" y="1341360"/>
            <a:ext cx="44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6E9E-188A-4BD8-86F2-E4963FC961F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m of the charges on the cation/s and anion/s in each formula unit must equal zer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formula of the ionic compound must b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to make the formula neu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bscript of the cation is 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qual to the charge on the anion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script on the anion is numerically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the charge on the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6720" y="5467320"/>
            <a:ext cx="52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739D-275C-4D0E-89AC-439AFA21AD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2 Atoms, Molecules and Ions: 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3 Atomic Number, Mass Number and Isot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5 Molecules and 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6 Chemica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7 Nam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ecular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B68A-E575-4764-89F1-7ED959C067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784960" y="1197000"/>
            <a:ext cx="344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6000" spc="-1" strike="noStrike">
                <a:solidFill>
                  <a:srgbClr val="9900cc"/>
                </a:solidFill>
                <a:latin typeface="Comic Sans MS"/>
              </a:rPr>
              <a:t>Br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96200" y="4724280"/>
            <a:ext cx="223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B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assium Bro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5C3F7-ACB2-43EC-A224-4A96A05D40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2508840" y="1197000"/>
            <a:ext cx="39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GB" sz="6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1700280"/>
            <a:ext cx="280836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352320" y="4724280"/>
            <a:ext cx="3120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Zn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Cl</a:t>
            </a:r>
            <a:r>
              <a:rPr b="0" lang="en-US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08360" y="1844640"/>
            <a:ext cx="2303640" cy="7444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nc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16C2-AE96-4EA0-850A-5C78531F87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2535480" y="1197000"/>
            <a:ext cx="39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2160" y="1801800"/>
            <a:ext cx="3240360" cy="133992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349800" y="4724280"/>
            <a:ext cx="312516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ar-SA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1773360"/>
            <a:ext cx="2735280" cy="81576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263700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0429-B6E6-40F3-B6D6-900B6016E8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3"/>
          <p:cNvSpPr/>
          <p:nvPr/>
        </p:nvSpPr>
        <p:spPr>
          <a:xfrm>
            <a:off x="2144520" y="1197000"/>
            <a:ext cx="473112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en-US" sz="60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6000" spc="-1" strike="noStrike">
                <a:solidFill>
                  <a:srgbClr val="9900cc"/>
                </a:solidFill>
                <a:latin typeface="Comic Sans MS"/>
              </a:rPr>
              <a:t>SO</a:t>
            </a:r>
            <a:r>
              <a:rPr b="0" lang="en-US" sz="6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60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1773360"/>
            <a:ext cx="4176720" cy="1368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88000" y="3284640"/>
            <a:ext cx="433440" cy="1008000"/>
          </a:xfrm>
          <a:prstGeom prst="downArrow">
            <a:avLst>
              <a:gd name="adj1" fmla="val 50000"/>
              <a:gd name="adj2" fmla="val 5814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2384640" y="4724280"/>
            <a:ext cx="50652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a50021"/>
                </a:solidFill>
                <a:latin typeface="Comic Sans MS"/>
              </a:rPr>
              <a:t>Cr</a:t>
            </a:r>
            <a:r>
              <a:rPr b="0" lang="ar-SA" sz="9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(S</a:t>
            </a:r>
            <a:r>
              <a:rPr b="0" lang="en-US" sz="9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9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9600" spc="-1" strike="noStrike">
                <a:solidFill>
                  <a:srgbClr val="9900cc"/>
                </a:solidFill>
                <a:latin typeface="Comic Sans MS"/>
              </a:rPr>
              <a:t>)</a:t>
            </a:r>
            <a:r>
              <a:rPr b="0" lang="en-GB" sz="96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2060640"/>
            <a:ext cx="3240000" cy="79200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ium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24720" y="263700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D3FE-B30C-4251-A07B-0C5598B38A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55836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mple 2.4 p5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rite the formula of magnesium ni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ntaining the 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3-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83720" y="357192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73320" y="3932280"/>
            <a:ext cx="1871640" cy="1584360"/>
          </a:xfrm>
          <a:custGeom>
            <a:avLst/>
            <a:gdLst/>
            <a:ahLst/>
            <a:rect l="l" t="t" r="r" b="b"/>
            <a:pathLst>
              <a:path w="2041" h="756">
                <a:moveTo>
                  <a:pt x="2041" y="0"/>
                </a:moveTo>
                <a:cubicBezTo>
                  <a:pt x="1939" y="348"/>
                  <a:pt x="1837" y="696"/>
                  <a:pt x="1497" y="726"/>
                </a:cubicBezTo>
                <a:cubicBezTo>
                  <a:pt x="1157" y="756"/>
                  <a:pt x="578" y="468"/>
                  <a:pt x="0" y="181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3635280" y="4220640"/>
            <a:ext cx="433080" cy="1008000"/>
          </a:xfrm>
          <a:prstGeom prst="downArrow">
            <a:avLst>
              <a:gd name="adj1" fmla="val 50000"/>
              <a:gd name="adj2" fmla="val 581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37080" y="4221000"/>
            <a:ext cx="2200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GB" sz="54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GB" sz="5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15880" y="4005360"/>
            <a:ext cx="1441800" cy="958680"/>
          </a:xfrm>
          <a:custGeom>
            <a:avLst/>
            <a:gdLst/>
            <a:ahLst/>
            <a:rect l="l" t="t" r="r" b="b"/>
            <a:pathLst>
              <a:path w="1723" h="514">
                <a:moveTo>
                  <a:pt x="0" y="0"/>
                </a:moveTo>
                <a:cubicBezTo>
                  <a:pt x="400" y="242"/>
                  <a:pt x="801" y="484"/>
                  <a:pt x="1088" y="499"/>
                </a:cubicBezTo>
                <a:cubicBezTo>
                  <a:pt x="1375" y="514"/>
                  <a:pt x="1549" y="302"/>
                  <a:pt x="1723" y="90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558972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C5CE-AD31-4DF7-B19F-201CA564A5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2.7 Naming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 nomenclatu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naming the chemical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63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4139280" y="547920"/>
            <a:ext cx="649080" cy="6121440"/>
          </a:xfrm>
          <a:custGeom>
            <a:avLst/>
            <a:gdLst>
              <a:gd name="textAreaLeft" fmla="*/ 0 w 649080"/>
              <a:gd name="textAreaRight" fmla="*/ 234360 w 649080"/>
              <a:gd name="textAreaTop" fmla="*/ 159480 h 6121440"/>
              <a:gd name="textAreaBottom" fmla="*/ 5961960 h 612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280" y="407664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Organic Compound: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contain carbon in combination with elements such as hydrogen,  oxygen, nitrogen and 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508720" y="407664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Inorganic Compound: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all othe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5950080"/>
            <a:ext cx="8820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lso Inorganic compounds: CO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S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mpounds containing CN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, 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&amp; HCO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E88B-BCA3-4205-BE17-34CD3DEBE1D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1C6A-75CA-4ED4-8ADE-679FD7B31D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53352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570B-F4BE-4463-8E06-E495EFB03B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76320" y="4724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st reactive </a:t>
            </a:r>
            <a:r>
              <a:rPr b="1" lang="en-US" sz="2800" spc="-1" strike="noStrike">
                <a:solidFill>
                  <a:srgbClr val="00cc66"/>
                </a:solidFill>
                <a:latin typeface="Comic Sans MS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green) and the most reactive </a:t>
            </a:r>
            <a:r>
              <a:rPr b="1" lang="en-US" sz="2800" spc="-1" strike="noStrike">
                <a:solidFill>
                  <a:srgbClr val="66ccff"/>
                </a:solidFill>
                <a:latin typeface="Comic Sans MS"/>
              </a:rPr>
              <a:t>nonmet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blue) combine to form io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04680" y="528480"/>
            <a:ext cx="35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41AD-DE3C-4649-A466-28378FCDAE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24000" y="47304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 form an ionic compound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and B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and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ae2ca"/>
                </a:solidFill>
                <a:latin typeface="Comic Sans MS"/>
              </a:rPr>
              <a:t>O and 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 and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3284640"/>
            <a:ext cx="85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Which of these pairs of elements would be most 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Comic Sans MS"/>
              </a:rPr>
              <a:t>form a molecular comp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a and Br            (b) </a:t>
            </a:r>
            <a:r>
              <a:rPr b="0" lang="en-GB" sz="2400" spc="-1" strike="noStrike">
                <a:solidFill>
                  <a:srgbClr val="aae2ca"/>
                </a:solidFill>
                <a:latin typeface="Comic Sans MS"/>
              </a:rPr>
              <a:t>C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 and O             (d) Zn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g and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B266-54D2-469F-9535-C54840199D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Atoms, Molecules and Ions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31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basic unit of an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n enter into chemical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Electron (e) (-ve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oton (p) (+ve charg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omic Sans MS"/>
              </a:rPr>
              <a:t>Neutron (n) (neut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3429000"/>
            <a:ext cx="503280" cy="1655640"/>
          </a:xfrm>
          <a:custGeom>
            <a:avLst/>
            <a:gdLst>
              <a:gd name="textAreaLeft" fmla="*/ 0 w 503280"/>
              <a:gd name="textAreaRight" fmla="*/ 181800 w 503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0360" y="38019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atomic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E39C5-A6BB-47CC-83BA-BCB9DF0B3C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104360" y="-999720"/>
            <a:ext cx="1079640" cy="547236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920" y="227664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cc"/>
                </a:solidFill>
                <a:uFillTx/>
                <a:latin typeface="Comic Sans MS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4000" y="227664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915280" y="908280"/>
            <a:ext cx="1152360" cy="5904000"/>
          </a:xfrm>
          <a:custGeom>
            <a:avLst/>
            <a:gdLst>
              <a:gd name="textAreaLeft" fmla="*/ 0 w 1152360"/>
              <a:gd name="textAreaRight" fmla="*/ 416160 w 1152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45036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Metal Cation: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4370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Nonmetal Anion: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2621-ACBE-465F-90DD-7711F19A2E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8360" y="47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Metal Cation: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takes their names from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960000" y="-1648440"/>
            <a:ext cx="1008000" cy="7274160"/>
          </a:xfrm>
          <a:custGeom>
            <a:avLst/>
            <a:gdLst>
              <a:gd name="textAreaLeft" fmla="*/ 0 w 1008000"/>
              <a:gd name="textAreaRight" fmla="*/ 363960 w 1008000"/>
              <a:gd name="textAreaTop" fmla="*/ 189360 h 7274160"/>
              <a:gd name="textAreaBottom" fmla="*/ 7084800 h 727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708280"/>
            <a:ext cx="4390920" cy="24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kali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256536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other metal cations e.g.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" y="5746680"/>
            <a:ext cx="7705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ame of metal cation: N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mmon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ED261-82A8-4328-9460-E319DB7102D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15238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92280"/>
            <a:ext cx="22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only type of 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236700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33BD5-C66E-4577-9637-23E360DD34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179280" y="1773360"/>
          <a:ext cx="8712360" cy="2735280"/>
        </p:xfrm>
        <a:graphic>
          <a:graphicData uri="http://schemas.openxmlformats.org/drawingml/2006/table">
            <a:tbl>
              <a:tblPr/>
              <a:tblGrid>
                <a:gridCol w="2521080"/>
                <a:gridCol w="6191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 So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GB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Sodium ion (or sodium cation</a:t>
                      </a:r>
                      <a:r>
                        <a:rPr b="0" lang="ar-SA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 potas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potassium ion (or potas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 magnes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magnesium ion (or magnes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 Alumi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9900cc"/>
                          </a:solidFill>
                          <a:latin typeface="Comic Sans MS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 aluminium ion (or aluminium c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ls form only one type of 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73F7-5604-4152-9B30-8F96F87B21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50920" y="620640"/>
            <a:ext cx="8497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tals form more than one type of cation (Transition Me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Iron can form two cation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&amp; F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00"/>
                </a:solidFill>
                <a:uFillTx/>
                <a:latin typeface="Comic Sans MS"/>
              </a:rPr>
              <a:t>Stock System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specify th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of the cation  with Roman num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e.g. 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FeCl</a:t>
            </a:r>
            <a:r>
              <a:rPr b="0" lang="en-GB" sz="32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→ Iron (III) chlo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451640" y="3357720"/>
          <a:ext cx="1657440" cy="3095640"/>
        </p:xfrm>
        <a:graphic>
          <a:graphicData uri="http://schemas.openxmlformats.org/drawingml/2006/table">
            <a:tbl>
              <a:tblPr/>
              <a:tblGrid>
                <a:gridCol w="748800"/>
                <a:gridCol w="9086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7233840" y="2997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Roman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3393-794D-403E-8CBA-5007324188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836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Nonmetal Anion: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Take the first part of the element name and add -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4031280" y="-639000"/>
            <a:ext cx="1079640" cy="5472000"/>
          </a:xfrm>
          <a:custGeom>
            <a:avLst/>
            <a:gdLst>
              <a:gd name="textAreaLeft" fmla="*/ 0 w 1079640"/>
              <a:gd name="textAreaRight" fmla="*/ 389880 w 107964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2708280"/>
            <a:ext cx="45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Cl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Chlorine →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Bromine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0" lang="en-GB" sz="2800" spc="-1" strike="noStrike" baseline="30000">
                <a:solidFill>
                  <a:srgbClr val="006600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Oxygen </a:t>
            </a:r>
            <a:r>
              <a:rPr b="0" lang="en-GB" sz="28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0080" y="2708280"/>
            <a:ext cx="387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lyatomic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H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N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229360"/>
            <a:ext cx="87487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33"/>
                </a:solidFill>
                <a:uFillTx/>
                <a:latin typeface="Comic Sans MS"/>
              </a:rPr>
              <a:t>Common names for some anions: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Carbonate    P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Phosphate  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HC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Bicarbonate       N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Nitrate    SO</a:t>
            </a:r>
            <a:r>
              <a:rPr b="0" lang="en-US" sz="2400" spc="-1" strike="noStrike" baseline="-25000">
                <a:solidFill>
                  <a:srgbClr val="666633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666633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Sulp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932D-A5FA-4A98-8B46-C10A6674674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9" descr="02_02"/>
          <p:cNvPicPr/>
          <p:nvPr/>
        </p:nvPicPr>
        <p:blipFill>
          <a:blip r:embed="rId1"/>
          <a:srcRect l="0" t="5392" r="0" b="0"/>
          <a:stretch/>
        </p:blipFill>
        <p:spPr>
          <a:xfrm>
            <a:off x="360360" y="1905120"/>
            <a:ext cx="8388360" cy="2965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39640" y="620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Monoatomic 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4B2B-4117-48EA-B594-50517C032A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02_03"/>
          <p:cNvPicPr/>
          <p:nvPr/>
        </p:nvPicPr>
        <p:blipFill>
          <a:blip r:embed="rId1"/>
          <a:srcRect l="0" t="2224" r="0" b="2126"/>
          <a:stretch/>
        </p:blipFill>
        <p:spPr>
          <a:xfrm>
            <a:off x="1577880" y="0"/>
            <a:ext cx="5988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9D99-5998-4631-8858-E0F5E06D5B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5 p6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a) Cu(N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pper cation (can form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ypes of ca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ck system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pper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ion 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pper (II) n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3789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4A12-3A3A-4F58-BF0B-91A5C07350C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b) KH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K form only one type of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tassium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te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not potassium 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Potasium dihydro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3243-CFF5-4611-9908-D13438856CA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02_01"/>
          <p:cNvPicPr/>
          <p:nvPr/>
        </p:nvPicPr>
        <p:blipFill>
          <a:blip r:embed="rId1"/>
          <a:srcRect l="0" t="5427" r="0" b="0"/>
          <a:stretch/>
        </p:blipFill>
        <p:spPr>
          <a:xfrm>
            <a:off x="287280" y="765000"/>
            <a:ext cx="8748720" cy="29354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24000" y="4365720"/>
            <a:ext cx="82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ss p = mass n = 1840 x mass e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7AC6-3ABB-49B9-8235-0C0B61F381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c) NH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l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a common name ammon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An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common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name of the compound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mmonium chl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0238-B4BD-4FF9-9130-9D759B788F3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6 p6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Mercury (I) nit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 number (I) shows that mercury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+1 charg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g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ite is a common name of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Hg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(NO</a:t>
            </a:r>
            <a:r>
              <a:rPr b="0" lang="ar-SA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542C-2AA0-445C-91F5-FBBB0A8B992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79280" y="907920"/>
            <a:ext cx="8748720" cy="49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Mercury (Hg) is the only metal has this formula when it form cation with only one positive charg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Hg</a:t>
            </a:r>
            <a:r>
              <a:rPr b="0" lang="en-US" sz="3600" spc="-1" strike="noStrike" baseline="-25000">
                <a:solidFill>
                  <a:srgbClr val="666633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2+</a:t>
            </a: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 NOT Hg</a:t>
            </a:r>
            <a:r>
              <a:rPr b="0" lang="en-US" sz="3600" spc="-1" strike="noStrike" baseline="30000">
                <a:solidFill>
                  <a:srgbClr val="666633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cation of two positive charges has the formula Hg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92F5-FB53-42BE-A6B0-09E2A3A50F6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Cesium sulp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sium Cs is in group 1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lphide 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72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F718-A8EB-4B24-9477-4E439D56C0A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(b) Calcium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ium Ca is in 2A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sphate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chemical formula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177336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a50021"/>
                </a:solidFill>
                <a:uFillTx/>
                <a:latin typeface="Arial"/>
              </a:rPr>
              <a:t>قاعدة تبادل التكافؤ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6E79-88C2-46DC-83B3-BE214AE2ACB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340000" y="549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n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4248000" y="-1143000"/>
            <a:ext cx="792000" cy="5472360"/>
          </a:xfrm>
          <a:custGeom>
            <a:avLst/>
            <a:gdLst>
              <a:gd name="textAreaLeft" fmla="*/ 0 w 792000"/>
              <a:gd name="textAreaRight" fmla="*/ 285840 w 792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1916280"/>
            <a:ext cx="460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Metal cation + Nonmetal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64000" y="1916280"/>
            <a:ext cx="396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olecular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Non-metal + non-m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Metaliod + non-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A55C-597D-4109-8ADD-2311B68416C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41360" y="606600"/>
            <a:ext cx="8523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124000" y="343836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F017-56F6-4875-9998-7571EA7EEC6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39640" y="549360"/>
            <a:ext cx="82803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6600"/>
                </a:solidFill>
                <a:uFillTx/>
                <a:latin typeface="Comic Sans MS"/>
              </a:rPr>
              <a:t>Molecular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Place the name of the first element in the formula first, and the second element is named by adding –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63640" y="4054320"/>
          <a:ext cx="5832720" cy="2830680"/>
        </p:xfrm>
        <a:graphic>
          <a:graphicData uri="http://schemas.openxmlformats.org/drawingml/2006/table">
            <a:tbl>
              <a:tblPr/>
              <a:tblGrid>
                <a:gridCol w="1871640"/>
                <a:gridCol w="3961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chlor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 bro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licone carb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59CD-E7FE-4863-835F-606CE6A7354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709560"/>
            <a:ext cx="7848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 the following cases: (one pair of elements form several different compou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CO           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       N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77C3-8595-4B62-AB01-7B0CDB14475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24000" y="415800"/>
            <a:ext cx="6480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How can we name these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Also by placing the name of the first element in the formula first, and the second element is named by ad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ide at the last of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+ By using of Greek prefixes to denote the number of atoms of each elemen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7" descr="02_04"/>
          <p:cNvPicPr/>
          <p:nvPr/>
        </p:nvPicPr>
        <p:blipFill>
          <a:blip r:embed="rId1"/>
          <a:srcRect l="5021" t="2087" r="4800" b="2087"/>
          <a:stretch/>
        </p:blipFill>
        <p:spPr>
          <a:xfrm>
            <a:off x="6877080" y="476280"/>
            <a:ext cx="219384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B435-0BC1-42D2-A94F-022A2BDC1D5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85800" y="380880"/>
            <a:ext cx="79246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neutral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914400"/>
          <a:ext cx="6172200" cy="121932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914400" y="223524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C. II and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D. I and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27813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Use the following table and choose which of the species ar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negatively charged</a:t>
            </a:r>
            <a:r>
              <a:rPr b="0" lang="en-US" sz="1600" spc="-1" strike="noStrike">
                <a:solidFill>
                  <a:srgbClr val="cc0066"/>
                </a:solidFill>
                <a:latin typeface="Comic Sans MS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4400" y="3578400"/>
          <a:ext cx="6172200" cy="1218960"/>
        </p:xfrm>
        <a:graphic>
          <a:graphicData uri="http://schemas.openxmlformats.org/drawingml/2006/table">
            <a:tbl>
              <a:tblPr/>
              <a:tblGrid>
                <a:gridCol w="2468520"/>
                <a:gridCol w="617760"/>
                <a:gridCol w="617400"/>
                <a:gridCol w="617400"/>
                <a:gridCol w="615960"/>
                <a:gridCol w="617760"/>
                <a:gridCol w="61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electrons 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protons (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 or ion neutron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Box 7"/>
          <p:cNvSpPr/>
          <p:nvPr/>
        </p:nvSpPr>
        <p:spPr>
          <a:xfrm>
            <a:off x="990720" y="486396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II and V                             </a:t>
            </a: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II and 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V and V                              D. I and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84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Atoms with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same number of electrons and number of protons</a:t>
            </a:r>
            <a:r>
              <a:rPr b="0" lang="en-US" sz="1800" spc="-1" strike="noStrike">
                <a:solidFill>
                  <a:srgbClr val="cc0066"/>
                </a:solidFill>
                <a:latin typeface="Comic Sans MS"/>
              </a:rPr>
              <a:t> are call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ons                                           B. isot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omic Sans MS"/>
              </a:rPr>
              <a:t>C. neutral atoms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. different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9588-DC09-46C6-866C-B95D8D5703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39640" y="549360"/>
            <a:ext cx="2087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826920" y="1805040"/>
          <a:ext cx="6193080" cy="4719600"/>
        </p:xfrm>
        <a:graphic>
          <a:graphicData uri="http://schemas.openxmlformats.org/drawingml/2006/table">
            <a:tbl>
              <a:tblPr/>
              <a:tblGrid>
                <a:gridCol w="1810080"/>
                <a:gridCol w="4383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Monocarbon mono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→ </a:t>
                      </a:r>
                      <a:r>
                        <a:rPr b="0" lang="en-GB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Carbon mon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O</a:t>
                      </a:r>
                      <a:r>
                        <a:rPr b="1" lang="en-US" sz="2800" spc="-1" strike="noStrike" baseline="-25000">
                          <a:solidFill>
                            <a:srgbClr val="9999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Comic Sans MS"/>
                        </a:rPr>
                        <a:t>Carbo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ulphur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a50021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lphur tr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O</a:t>
                      </a:r>
                      <a:r>
                        <a:rPr b="1" lang="en-US" sz="2800" spc="-1" strike="noStrike" baseline="-25000">
                          <a:solidFill>
                            <a:srgbClr val="666633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6633"/>
                          </a:solidFill>
                          <a:latin typeface="Comic Sans MS"/>
                        </a:rPr>
                        <a:t>Nitrogen di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Dinitrogen tet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"/>
          <p:cNvSpPr/>
          <p:nvPr/>
        </p:nvSpPr>
        <p:spPr>
          <a:xfrm>
            <a:off x="2484360" y="1844640"/>
            <a:ext cx="1150920" cy="432000"/>
          </a:xfrm>
          <a:prstGeom prst="wedgeRectCallout">
            <a:avLst>
              <a:gd name="adj1" fmla="val 4620"/>
              <a:gd name="adj2" fmla="val -1209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0920" y="76500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Note: Omitted if its in the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999120" y="1916280"/>
            <a:ext cx="203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momo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5508720"/>
            <a:ext cx="25207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aoxide </a:t>
            </a: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tet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5556-9B50-4510-B62E-0BE649C04A1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Example 2.7 p6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Name the following molecular comp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a) SiCl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e silicon atom &amp; four chlorine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Monosilicon tetrachloride (or o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o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Silicon 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400" spc="-1" strike="noStrike">
                <a:solidFill>
                  <a:srgbClr val="a50021"/>
                </a:solidFill>
                <a:latin typeface="Comic Sans MS"/>
              </a:rPr>
              <a:t>chloride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E22E4-0CD9-4D12-A32F-0B1F8B7755E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(b) P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O</a:t>
            </a:r>
            <a:r>
              <a:rPr b="0" lang="en-GB" sz="3200" spc="-1" strike="noStrike" baseline="-25000">
                <a:solidFill>
                  <a:srgbClr val="a50021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r phosphourus atoms &amp; ten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us: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Tetra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phosphourus </a:t>
            </a:r>
            <a:r>
              <a:rPr b="0" lang="en-GB" sz="4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4000" spc="-1" strike="noStrike">
                <a:solidFill>
                  <a:srgbClr val="a50021"/>
                </a:solidFill>
                <a:latin typeface="Comic Sans MS"/>
              </a:rPr>
              <a:t>ox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068640"/>
            <a:ext cx="20368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dec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o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D5E6-0990-41E3-95CA-F95ED931D04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57200" y="433440"/>
            <a:ext cx="82296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xample 2.8 p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Write chemical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molecular 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a) carbon di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one carbon atom &amp; two sulph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b) Disilicon hexa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is two silicon atoms &amp; six 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oms, Thus: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r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386064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602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.W. Solve the practice exercise p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097A-F93A-47F2-9EED-149D5E97233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981000"/>
            <a:ext cx="914580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. Ion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Cation          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2. Non-metal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Take the name of th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Common metal NH</a:t>
            </a:r>
            <a:r>
              <a:rPr b="0" lang="en-US" sz="20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one type of cation (1A, 2A, Ag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Cd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, Al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, Zn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Metal form more than one type of cation (e.g..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&amp; Cr</a:t>
            </a:r>
            <a:r>
              <a:rPr b="0" lang="en-US" sz="2000" spc="-1" strike="noStrike" baseline="30000">
                <a:solidFill>
                  <a:srgbClr val="9900cc"/>
                </a:solidFill>
                <a:latin typeface="Comic Sans MS"/>
              </a:rPr>
              <a:t>3+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tock System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 Roman numerals</a:t>
            </a:r>
            <a:r>
              <a:rPr b="0" lang="en-US" sz="2000" spc="-1" strike="noStrike">
                <a:solidFill>
                  <a:srgbClr val="9900cc"/>
                </a:solidFill>
                <a:latin typeface="Comic Sans MS"/>
              </a:rPr>
              <a:t> (1 = I, 2 = II, 3 = III, 4 = IV, 5 =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888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Naming Compounds: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D563-E683-4814-987C-D5A0705E72A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79280" y="981000"/>
            <a:ext cx="896472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Non-metal Anion                              </a:t>
            </a:r>
            <a:r>
              <a:rPr b="0" lang="en-GB" sz="2000" spc="-1" strike="noStrike">
                <a:solidFill>
                  <a:srgbClr val="9900cc"/>
                </a:solidFill>
                <a:latin typeface="Comic Sans MS"/>
              </a:rPr>
              <a:t>1. Metal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ake the name of the element but change the last of the name to -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1. Common names, ClO</a:t>
            </a:r>
            <a:r>
              <a:rPr b="0" lang="en-GB" sz="20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 baseline="30000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2. monoatomic non-metals, e.g. chlorine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hlo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3. Polyatoic non-metals, OH</a:t>
            </a:r>
            <a:r>
              <a:rPr b="0" lang="en-GB" sz="2000" spc="-1" strike="noStrike" baseline="30000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ydroxid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BAE7-35E5-4DB9-AA82-1383C1301D4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9280" y="981000"/>
            <a:ext cx="8964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. Molecul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GB" sz="2000" spc="-1" strike="noStrike">
                <a:solidFill>
                  <a:srgbClr val="00007d"/>
                </a:solidFill>
                <a:latin typeface="Comic Sans MS"/>
              </a:rPr>
              <a:t>1. Io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airs form one type of compound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2. Pairs form several type   of compounds</a:t>
            </a:r>
            <a:r>
              <a:rPr b="0" lang="ar-SA" sz="1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-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HCl Hydrogen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4572000" y="-243000"/>
            <a:ext cx="431640" cy="3743280"/>
          </a:xfrm>
          <a:custGeom>
            <a:avLst/>
            <a:gdLst>
              <a:gd name="textAreaLeft" fmla="*/ 0 w 431640"/>
              <a:gd name="textAreaRight" fmla="*/ 155880 w 43164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2916360" y="476280"/>
            <a:ext cx="576000" cy="4176720"/>
          </a:xfrm>
          <a:custGeom>
            <a:avLst/>
            <a:gdLst>
              <a:gd name="textAreaLeft" fmla="*/ 0 w 576000"/>
              <a:gd name="textAreaRight" fmla="*/ 208080 w 57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0720" y="3141720"/>
            <a:ext cx="46432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Put the name of the first element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first and change the nam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econd element  but change the l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of the name to –ide, &amp; use the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Greek prefixes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(mono- = 1, di- = 2 …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.g. CO carbon mon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CO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1129-A433-4200-AE81-C4870D06A25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611280" y="54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NH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NO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ammonium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um nitrogen tr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monia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ogen 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drogen ni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611280" y="3789360"/>
            <a:ext cx="78469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The correct name for PCl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 i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phosphate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sphorus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lor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d)    monophosphate tetr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4bacc6"/>
                </a:solidFill>
                <a:latin typeface="Comic Sans MS"/>
              </a:rPr>
              <a:t>phosphorus penta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683E-81FD-47E9-B05E-21F7C4F3DD0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1" descr="02_11"/>
          <p:cNvPicPr/>
          <p:nvPr/>
        </p:nvPicPr>
        <p:blipFill>
          <a:blip r:embed="rId1"/>
          <a:srcRect l="0" t="3812" r="0" b="0"/>
          <a:stretch/>
        </p:blipFill>
        <p:spPr>
          <a:xfrm>
            <a:off x="0" y="476280"/>
            <a:ext cx="9144000" cy="3967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11280" y="379440"/>
            <a:ext cx="62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التكافؤ او عدد الاكسد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a50021"/>
                </a:solidFill>
                <a:uFillTx/>
                <a:latin typeface="Comic Sans MS"/>
              </a:rPr>
              <a:t>للعناصر الشهير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383000"/>
            <a:ext cx="8964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1A (alkaline Metals):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2A (alkaline Earth Metals): 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3A: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5A: -3 (= 5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6A: -2 (= 6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7A (halogens): -1 (= 7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9E00-D14D-4C95-AA05-AEA5BEC20F8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1280" y="115920"/>
            <a:ext cx="8893440" cy="65786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979640" y="260280"/>
            <a:ext cx="367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73A8-8C55-4F0E-B240-54816FCC216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1706400"/>
            <a:ext cx="8991720" cy="51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omic number: is the number of protons in the nucleus of each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ic number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r a neutral atom: Number of protons =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Mass number: is the total number of neutrons and protons present in the nucleus of an atom of an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ss number (A) = number of protons + number of neut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=  atomic number (Z) + number of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us: the number of neutrons = A -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040" y="40464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2.3 Atomic number, Mass number and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E99B-7A13-4049-8D70-5BB63EA862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920" y="423720"/>
            <a:ext cx="4968720" cy="69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9900cc"/>
                </a:solidFill>
                <a:uFillTx/>
                <a:latin typeface="Comic Sans MS"/>
              </a:rPr>
              <a:t>Problems: 2.57 &amp; 2.58 p7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me these compou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P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HB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L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K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Cr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H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N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F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6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24000" y="371520"/>
            <a:ext cx="7488360" cy="65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sodium 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hydrogen phosph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hydrogen bro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lithium carbo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 potassium dichr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ionic 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ammonium nit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tri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phosphorus pentaflour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600" spc="-1" strike="noStrike">
                <a:solidFill>
                  <a:srgbClr val="a50021"/>
                </a:solidFill>
                <a:latin typeface="Comic Sans MS"/>
              </a:rPr>
              <a:t>molecular → tetraphosphourus hex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532A-1305-4369-A333-49F40C61C38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95280" y="-531720"/>
            <a:ext cx="468144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dI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rS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l(OH)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Na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Cl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6600"/>
              </a:buClr>
              <a:buFont typeface="Comic Sans MS"/>
              <a:buAutoNum type="alphaL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GB" sz="2600" spc="-1" strike="noStrike" baseline="-25000">
                <a:solidFill>
                  <a:srgbClr val="9900cc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56000" y="-544680"/>
            <a:ext cx="6443640" cy="76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cadm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tront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alumin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sodium carbon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)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onic → iron (III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5399-9AFB-49E3-AD37-4E8230799EE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000" y="549360"/>
            <a:ext cx="6335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Problem 2.59 &amp; 2.30 p7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Write the formulas for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mp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Rubidium nit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sulph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magnesium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lcium 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otassium dihydrogen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iodine heptaflou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6360" y="2421000"/>
            <a:ext cx="298764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bN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Mg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H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KH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O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F</a:t>
            </a:r>
            <a:r>
              <a:rPr b="0" lang="en-US" sz="2800" spc="-1" strike="noStrike" baseline="-25000">
                <a:solidFill>
                  <a:srgbClr val="a50021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3688-CB6A-4E61-BB6A-6B1CE589547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468360" y="549360"/>
            <a:ext cx="867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mmonium sul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silver perchl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boron tri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opper (II) cyan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I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Comic Sans MS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lead (IV) carb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37080" y="1197000"/>
            <a:ext cx="29876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(N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gCl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BCl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Cu(CN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Pb(C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0273-ABDD-4FC9-8D65-6703DA5F15D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4881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6EAB-86CF-4676-8399-0FE68A44A9C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88560" y="1430280"/>
            <a:ext cx="728280" cy="816840"/>
            <a:chOff x="3688560" y="1430280"/>
            <a:chExt cx="728280" cy="816840"/>
          </a:xfrm>
        </p:grpSpPr>
        <p:sp>
          <p:nvSpPr>
            <p:cNvPr id="129" name=""/>
            <p:cNvSpPr/>
            <p:nvPr/>
          </p:nvSpPr>
          <p:spPr>
            <a:xfrm>
              <a:off x="3967920" y="1503360"/>
              <a:ext cx="44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8560" y="14302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28520" y="1787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56240" y="2529000"/>
            <a:ext cx="4671360" cy="751680"/>
            <a:chOff x="1956240" y="2529000"/>
            <a:chExt cx="4671360" cy="751680"/>
          </a:xfrm>
        </p:grpSpPr>
        <p:grpSp>
          <p:nvGrpSpPr>
            <p:cNvPr id="133" name=""/>
            <p:cNvGrpSpPr/>
            <p:nvPr/>
          </p:nvGrpSpPr>
          <p:grpSpPr>
            <a:xfrm>
              <a:off x="1956240" y="2529000"/>
              <a:ext cx="718560" cy="751680"/>
              <a:chOff x="1956240" y="2529000"/>
              <a:chExt cx="718560" cy="7516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55680" y="2603520"/>
                <a:ext cx="51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5624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5624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99400" y="2529000"/>
              <a:ext cx="1481400" cy="751680"/>
              <a:chOff x="3299400" y="2529000"/>
              <a:chExt cx="1481400" cy="75168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4840" y="2602080"/>
                <a:ext cx="124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238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994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194800" y="2529000"/>
              <a:ext cx="1432800" cy="751680"/>
              <a:chOff x="5194800" y="2529000"/>
              <a:chExt cx="1432800" cy="751680"/>
            </a:xfrm>
          </p:grpSpPr>
          <p:sp>
            <p:nvSpPr>
              <p:cNvPr id="142" name=""/>
              <p:cNvSpPr/>
              <p:nvPr/>
            </p:nvSpPr>
            <p:spPr>
              <a:xfrm>
                <a:off x="5460840" y="2602080"/>
                <a:ext cx="116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19280" y="252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94800" y="2820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434320" y="3564000"/>
            <a:ext cx="3139200" cy="751680"/>
            <a:chOff x="2434320" y="3564000"/>
            <a:chExt cx="3139200" cy="751680"/>
          </a:xfrm>
        </p:grpSpPr>
        <p:grpSp>
          <p:nvGrpSpPr>
            <p:cNvPr id="146" name=""/>
            <p:cNvGrpSpPr/>
            <p:nvPr/>
          </p:nvGrpSpPr>
          <p:grpSpPr>
            <a:xfrm>
              <a:off x="2434320" y="3564000"/>
              <a:ext cx="1104120" cy="751680"/>
              <a:chOff x="2434320" y="3564000"/>
              <a:chExt cx="1104120" cy="751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02400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432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9344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9400" y="3564000"/>
              <a:ext cx="1104120" cy="751680"/>
              <a:chOff x="4469400" y="3564000"/>
              <a:chExt cx="1104120" cy="751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059080" y="3600360"/>
                <a:ext cx="51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9400" y="35640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28520" y="3855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67360" y="1413000"/>
            <a:ext cx="2241000" cy="398880"/>
            <a:chOff x="1467360" y="1413000"/>
            <a:chExt cx="2241000" cy="398880"/>
          </a:xfrm>
        </p:grpSpPr>
        <p:sp>
          <p:nvSpPr>
            <p:cNvPr id="155" name=""/>
            <p:cNvSpPr/>
            <p:nvPr/>
          </p:nvSpPr>
          <p:spPr>
            <a:xfrm>
              <a:off x="1467360" y="1413000"/>
              <a:ext cx="192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74840" y="1622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21200" y="1809720"/>
            <a:ext cx="2386800" cy="398880"/>
            <a:chOff x="1321200" y="1809720"/>
            <a:chExt cx="2386800" cy="398880"/>
          </a:xfrm>
        </p:grpSpPr>
        <p:sp>
          <p:nvSpPr>
            <p:cNvPr id="158" name=""/>
            <p:cNvSpPr/>
            <p:nvPr/>
          </p:nvSpPr>
          <p:spPr>
            <a:xfrm>
              <a:off x="1321200" y="1809720"/>
              <a:ext cx="21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Atomic Numbe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74840" y="20206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06400" y="1639800"/>
            <a:ext cx="2596680" cy="398880"/>
            <a:chOff x="4406400" y="1639800"/>
            <a:chExt cx="2596680" cy="398880"/>
          </a:xfrm>
        </p:grpSpPr>
        <p:sp>
          <p:nvSpPr>
            <p:cNvPr id="161" name=""/>
            <p:cNvSpPr/>
            <p:nvPr/>
          </p:nvSpPr>
          <p:spPr>
            <a:xfrm>
              <a:off x="4893120" y="1639800"/>
              <a:ext cx="21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omic Sans MS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406400" y="183672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4371-7052-45AB-B99D-03F90529E7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92280"/>
            <a:ext cx="83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otop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atoms of the same element (X) with different numbers of neutrons in their nuc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43280" y="2276640"/>
            <a:ext cx="7200720" cy="3287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16000" y="3274920"/>
            <a:ext cx="24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Isotopes of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5229360"/>
            <a:ext cx="630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1 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0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 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88DB-4DA5-4A99-BDFD-4F8BFE107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8:57Z</dcterms:modified>
  <cp:revision>206</cp:revision>
  <dc:subject/>
  <dc:title>General Chemistry CHEM 110</dc:title>
</cp:coreProperties>
</file>